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516-D3A3-429E-AA1F-55984C9C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ADE-F55E-44F2-AFD0-AE36B406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7F4-15F6-4805-8D22-98884FDE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F0D-2E8E-4DDA-8A04-583E9007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948-BE8B-4B3B-9773-CECD03AD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509-94D4-4C00-9CEA-DE4CAAC2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7A2-132F-469F-A642-E044ED54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1E2-E2E2-49A4-9D94-57B9223B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192-2D8C-4814-A432-4FBCD027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9AA-14F4-4A37-8EEE-0ACDD8A6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279-C416-4568-A69C-8FDFEFC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E33-674E-4880-B98A-2E2B0B07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47777-846A-41DE-B0D7-1EB41ECA1B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3FFB4-7570-4C34-8602-405CEE0C3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  <a:ea typeface="Gill Sans Ultra Bold"/>
              </a:rPr>
              <a:t>What is the meaning of “the medium is the message”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dium is the Mess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7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shall McLuhan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derstanding the Med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196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4834080"/>
            <a:ext cx="4041720" cy="3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Marshall McLuh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-61920" y="2057400"/>
            <a:ext cx="5394240" cy="404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4748040" y="1192320"/>
            <a:ext cx="3938760" cy="358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4110120" y="5265720"/>
            <a:ext cx="48369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rshal McLuhan’s books are the most important on the topic of the impact of mass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N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460520"/>
            <a:ext cx="404028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new medium changes 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ever a new medium comes along, people naturally get caught up in the information—the “content”—it carries.  However, in the long run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medium’s content matters less than the medium itself in influencing how we think and 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1460520"/>
            <a:ext cx="4273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focus on the medium’s content can blind us to its deep effects.  The content of the medium is ju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the juicy piece of meat carried by the burglar to distract the watchdog of the mind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roduction of every mass medium spurs a polarizing debate about its advantages and disadvantag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58:32Z</dcterms:created>
  <dc:creator>Jennifer</dc:creator>
  <dc:description/>
  <dc:language>en-US</dc:language>
  <cp:lastModifiedBy>Jennifer</cp:lastModifiedBy>
  <dcterms:modified xsi:type="dcterms:W3CDTF">2010-09-02T17:13:47Z</dcterms:modified>
  <cp:revision>5</cp:revision>
  <dc:subject/>
  <dc:title>“The Medium is the Message”</dc:title>
</cp:coreProperties>
</file>